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A44-3E1A-4613-A39D-1DB8998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9BB-EC3D-4C2E-AE5E-495B9D6D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C57-D202-4F89-9BE7-FEF9802D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E94-58C1-4EF7-8474-1BEA4162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600-BE0C-4C4E-9B5C-D473BF2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237-CB5F-4094-9143-95EA47D1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CF2-737A-4074-A727-6928544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C78-D220-4E11-9B8D-B34DBC4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2A2-2B46-4E27-BD81-5DBA8806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1FE-66AD-45AC-8EC9-7796E4E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B6D-F265-4C01-BB3F-38F552C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BCF-04DB-453C-AF57-F81C0D6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8BF-C610-4EB5-9466-2FAAAE9A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UMAMI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4267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73392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2838240" cy="1609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943600" y="266688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124080" y="2133720"/>
            <a:ext cx="269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829880"/>
            <a:ext cx="7162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pci su mladi poslovni ljudi starosti od 25 do 40 god platezno sposobni.Mogu na lak I brz nacin pripremiti ukusan i zdrav obrok I ustedeti vreme.Statistika pokazuje da ih ima 47.7 procen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EDNOST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nudi je tradicionalan,izvanredan,jeftin,niskokalorican proizvod prilagodjen savremenim trendovima sto obuhvata dodavanje razlicitih ukusa ,proizvod od organskog brasna,bez glutena,od heljde,spelte.Testenina koja resava problem kvalitetnog brzog obroka vrednujuci aromu,lekovitost I cuvanje nutritivnih vrednosti.U odnosu na konkurenciju proizvod nudi kvalitet koji obiluje kolicinom visoko vrednih proteina iz jaja koji su u rangu sa nemasnim mesom I ribom.Domaci proizvod je radjen sa ljubavlju I istim kvalitetom za druge kao I za s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86800" y="7162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JUCNA PARTNER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kreiranju proizvoda I pozicioniranja na trzistu pomazu kontakti,poznanstva sklopljena na sajmovima I kreativni trgov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zati se sa uticajnim ljudima I sa onima koji su vec prisutni na trzis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izvodu se moze saznati na Facebook drustvenoj mrezi,sajtu.Upoznavanje I pojavljivanje na sajmovima,organizovanje degustacija.Dobar imidz se prenosi od usta do u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ze se distribuirati direktnom prodajom,putem trgovina,zdravih hrana,restorana,kuhinja vrtica,menzi fakulteta,sindikalnih organizacija,banaka,velikih kompan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JUCNE AKTI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remanje prostora,kupovina masina,nabavka ambalaze,sirovina.Napraviti dobru recepturu koja dovodi do kvaliteta I kvantiteta.Brendirati proizv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R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ac,krediti,ljudski resu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NOSI SA KUPC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lagoditi proizvode zahtevima trzista.Uspostaviti komunikaciju sa kupcima,osluskivati njihove zelje I potrebe,navike.Deliti promo poklone.Organiyovati degustacije.Odrzavati kontakt putem drustvenih mreza,zabavnim,inspirativnim I edukativnim sadrzaj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OVI PRIH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aja individualnim potrosa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aja poklon paketa npr.rezanci sa mlevenim paradaisom za crvenu supu,taljatele sa pasterizovanim sirom u maslinovom ulju,taljatele sa uljem sa tartuf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aja gotovih proizvoda/k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KTURA TROSKO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SKOVI/godisnji kapacitet 15000 jedi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materijal,amortizacija,analiz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.energija,gorivo,plate,promocije 1.4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je veca cena troskova tj.ulaganja [to doprinosi kvalitetu sto ima dugorocno bolji ucinak,kvalitetan proizvod stice poverenje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od 1.6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17:49:37Z</dcterms:created>
  <dc:creator>Gimnazija</dc:creator>
  <dc:description/>
  <dc:language>en-US</dc:language>
  <cp:lastModifiedBy>Gimnazija</cp:lastModifiedBy>
  <dcterms:modified xsi:type="dcterms:W3CDTF">2018-04-15T20:07:38Z</dcterms:modified>
  <cp:revision>2</cp:revision>
  <dc:subject/>
  <dc:title>UMAMI TESTENINE</dc:title>
</cp:coreProperties>
</file>